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4C2-49FB-405F-B77F-A2914F7D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DEF-E136-457B-94B0-49A479C4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60E-6DF1-4F8C-939D-928C80E4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116-1A14-4CB6-B791-578963D7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43A-2101-4A16-AE8E-9CFB1BF9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E41-06C9-4138-83F8-D910D0A9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81D-5636-43EF-B8D8-B3398FB6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065-5341-4CCD-B101-520272AA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682-B643-40BD-BA42-33C22664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931-73BF-49C8-B09D-78301F7A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C25-213A-40CD-93F4-46B89A21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206-4CB3-4AA9-86FD-ADB0CF35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803E-C465-4147-A23E-4F612DDAD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5257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3222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952880" y="3124080"/>
            <a:ext cx="4191120" cy="335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228600"/>
            <a:ext cx="5181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Comidas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5638680"/>
            <a:ext cx="4352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or: Jeannette Pellegrini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057400" cy="1368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1600200" cy="147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1905120" cy="1427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400800" y="1447920"/>
            <a:ext cx="2238480" cy="1488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2819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Hue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7432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Go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56386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Panque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2971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Brin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276720" y="4191120"/>
            <a:ext cx="2057400" cy="1152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352680" y="57150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Le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30492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ara el desayuno me gusta comer..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6705720" y="38862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553080" y="55627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bagel con queso cr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851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114800" y="1371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15238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80880" y="0"/>
            <a:ext cx="6467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ara el almuerzo me gusta comer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295280" y="388620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562720" y="3962520"/>
            <a:ext cx="2923920" cy="1562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Lim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276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 Fru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59436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izza con qu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20574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sopa de p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5791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ensa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04920" y="0"/>
            <a:ext cx="8534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ara la Cena me gusta comer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33520" y="1600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248520" y="3809880"/>
            <a:ext cx="2495520" cy="1866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4038480" y="1752480"/>
            <a:ext cx="1332000" cy="2438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248520" y="15238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324480" y="3352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Hamburgu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34290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pan de 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4191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r.Pe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58672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spaghetti con salsa de to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85144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guiso de carne de vac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2505240" cy="1819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553080" y="4038480"/>
            <a:ext cx="2257560" cy="2028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429000" y="1447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228600" y="76212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6629400" y="11430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0"/>
            <a:ext cx="9144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Para el postre me gusta comer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4290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pudin de cho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17220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galleta con chispas de ch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36576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pastel de cho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6248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magdal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34290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mousse de li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19:18Z</dcterms:created>
  <dc:creator>pellegrinijea</dc:creator>
  <dc:description/>
  <dc:language>en-US</dc:language>
  <cp:lastModifiedBy>pellegrinijea</cp:lastModifiedBy>
  <dcterms:modified xsi:type="dcterms:W3CDTF">2012-04-05T14:02:57Z</dcterms:modified>
  <cp:revision>7</cp:revision>
  <dc:subject/>
  <dc:title>Slide 1</dc:title>
</cp:coreProperties>
</file>